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D15-5884-49F8-824E-033F7406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FB0-CC85-4847-AB1D-1CAD5891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BCF-F6B5-49B3-BF54-01609C58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EC5-7A23-485E-9A1F-852BCF07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FD9-4EF5-48BC-93D8-DF73485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73D-945C-451A-99F0-61DA5C8D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5E2-66B9-4BA7-A00D-BE397C71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0B9-DC18-4126-9F1B-8525842E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2D9-64BC-43F1-AF6B-059F62D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785-DCFD-4999-9577-F2B692C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01C-7965-4748-A6ED-DFEB400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11F-E3F6-4BF9-9724-75FAA50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780-662C-4485-A0AD-DCBFE3ACA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 fecha es el 3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es son algunas reglas para la división de silab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guiendo la regla; divide las siguientes palabras en sila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j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6. arañ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1. 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ren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7. enan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2. ore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m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8. pa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3. m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9. av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4. bo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íc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0. bañ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5. can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Formación de síla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-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uando dos consonantes separan las vocales, la primera consonante forma 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ílaba con la vocal anterior y la segunda consonante con la vocal que sigue.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Las letras </a:t>
            </a: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CH, LL,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y </a:t>
            </a: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RR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no se sepa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en two consonants separate the vowels, the first consonant forms a syllable with the previous vowel and the second  consonant with the vowel that follows,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The letters CH, LL, y RR don’t separ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   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 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B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R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OTRO poema para ayud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 una consonan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 no puedo e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 de otra consonan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quiero apar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8862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 am a conson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one I canno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 from another conso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want to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Formación de síla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ertos grupos consonanticos, </a:t>
            </a:r>
            <a:r>
              <a:rPr b="0" i="1" lang="es-ES_tradnl" sz="2800" spc="-1" strike="noStrike">
                <a:solidFill>
                  <a:srgbClr val="009999"/>
                </a:solidFill>
                <a:latin typeface="Arial"/>
              </a:rPr>
              <a:t>(Spanish blends)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L, CL, FL, GL, PL, BR, CR, DR, FR, GR, PR, TR, normalmente no se separan y forman silaba con la vocal que s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ertain consonant groups (Spanish blends) normally do not separate and form a syllable with the vowel that fol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B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   P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  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  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TA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B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¡Cuidado! NL, SL, LR, NR, SR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í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e sepa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Be careful! NL, SL, LR, NR, SR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seper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 ZAR       I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   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  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DE 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  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   QU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   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 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guiendo la regla; divide las siguientes palabras en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abraza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1. l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abrig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2.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n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tromp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.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ld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 tr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sc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. reg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Sila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4:22Z</dcterms:created>
  <dc:creator>Helen Zumaeta</dc:creator>
  <dc:description/>
  <dc:language>en-US</dc:language>
  <cp:lastModifiedBy>Helen Zumaeta</cp:lastModifiedBy>
  <dcterms:modified xsi:type="dcterms:W3CDTF">2011-10-03T02:56:41Z</dcterms:modified>
  <cp:revision>17</cp:revision>
  <dc:subject/>
  <dc:title>Me llamo _________ Clase 6 IM La fecha es el 4 de diciembre del 2009</dc:title>
</cp:coreProperties>
</file>